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3A7-BBB8-423F-8E33-257CDB8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F21-C800-48C7-B607-16C09420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4F3-3382-493F-9135-9DE83346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0D3-B8CE-4E2B-850F-E01C121E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FD5A-2A01-4E8A-9554-E299EE62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D5DC-921D-46C7-AE2D-98B574F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586-0798-4277-81DF-608D5698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B895-4012-4F4F-B1E4-A0316E0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225-84AA-4225-8160-E2431803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351-AC87-4652-BBC6-CF07CE7B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EAFE-538D-493C-905F-BAFD22E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8F3-4B9B-4173-B422-ABA4D816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AF81-FBCA-4BEA-9852-DA667019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96B8-7E0F-4C1D-A5A7-712AF474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22B6-A564-4F7B-8D60-996FAD8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7E9E-FFE2-46CE-9B03-7E5F12A0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F4BB-CC74-4D62-AE98-D440C7A9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563-239C-4B72-81D6-A0379760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237-FEB7-4F45-B446-72681E06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E2F-E4B9-49B9-99CD-39E7F30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4AD-DC57-4680-933C-13F011B8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6E5-C254-476A-BE01-EC45D8B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AD3-0948-4B8C-A0C5-232D1929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09C-2C72-4E47-8F91-34B278C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B22F-3265-4158-B699-135B05359F4B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09F0-5811-4C1F-B10F-6336C27BD2E2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CCA-D41C-430B-9376-5914A7B5D4E9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1D16-5BBD-4E69-9618-E249BCF2F803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752480" y="182880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8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 Ming’s Summer Holida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0610070061"/>
          <p:cNvPicPr/>
          <p:nvPr/>
        </p:nvPicPr>
        <p:blipFill>
          <a:blip r:embed="rId1"/>
          <a:srcRect l="0" t="9553" r="0" b="12388"/>
          <a:stretch/>
        </p:blipFill>
        <p:spPr>
          <a:xfrm>
            <a:off x="4343400" y="3519360"/>
            <a:ext cx="26035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58128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一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元的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 is a ___________ ticke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把你的经历和我分享一下吗？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_______ your ___________ ______ m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次考试我考得不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______ ______ in the exa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文本框 37894"/>
          <p:cNvSpPr/>
          <p:nvPr/>
        </p:nvSpPr>
        <p:spPr>
          <a:xfrm>
            <a:off x="25909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ty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ua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37899"/>
          <p:cNvSpPr/>
          <p:nvPr/>
        </p:nvSpPr>
        <p:spPr>
          <a:xfrm>
            <a:off x="2738520" y="3733920"/>
            <a:ext cx="19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a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37900"/>
          <p:cNvSpPr/>
          <p:nvPr/>
        </p:nvSpPr>
        <p:spPr>
          <a:xfrm>
            <a:off x="1809720" y="485460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901"/>
          <p:cNvSpPr/>
          <p:nvPr/>
        </p:nvSpPr>
        <p:spPr>
          <a:xfrm>
            <a:off x="2711520" y="48546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矩形 37907"/>
          <p:cNvSpPr/>
          <p:nvPr/>
        </p:nvSpPr>
        <p:spPr>
          <a:xfrm>
            <a:off x="4475160" y="37339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erienc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矩形 37916"/>
          <p:cNvSpPr/>
          <p:nvPr/>
        </p:nvSpPr>
        <p:spPr>
          <a:xfrm>
            <a:off x="6248520" y="373392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1" name="文本框 33897"/>
          <p:cNvSpPr/>
          <p:nvPr/>
        </p:nvSpPr>
        <p:spPr>
          <a:xfrm>
            <a:off x="838080" y="2698920"/>
            <a:ext cx="7543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思考一下你理想中的暑假会怎么度过呢，你会去哪，做什么，和谁去？写出来和大家分享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66567"/>
          <p:cNvSpPr/>
          <p:nvPr/>
        </p:nvSpPr>
        <p:spPr>
          <a:xfrm>
            <a:off x="603360" y="2711520"/>
            <a:ext cx="7931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Unpleasant advice is a good medicin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忠言逆耳利于行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3" name="图片 6656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6657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the life in the countrysid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will you do ther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49"/>
          <p:cNvSpPr/>
          <p:nvPr/>
        </p:nvSpPr>
        <p:spPr>
          <a:xfrm>
            <a:off x="3657600" y="5456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mme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m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59" descr="u=4000756087,769465380&amp;fm=23&amp;gp=0"/>
          <p:cNvPicPr/>
          <p:nvPr/>
        </p:nvPicPr>
        <p:blipFill>
          <a:blip r:embed="rId1"/>
          <a:stretch/>
        </p:blipFill>
        <p:spPr>
          <a:xfrm>
            <a:off x="1685880" y="1828800"/>
            <a:ext cx="55530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8131"/>
          <p:cNvSpPr/>
          <p:nvPr/>
        </p:nvSpPr>
        <p:spPr>
          <a:xfrm>
            <a:off x="2666880" y="5380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arm work in the countrysi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48146" descr="u=102861676,3701724688&amp;fm=23&amp;gp=0"/>
          <p:cNvPicPr/>
          <p:nvPr/>
        </p:nvPicPr>
        <p:blipFill>
          <a:blip r:embed="rId1"/>
          <a:srcRect l="0" t="0" r="0" b="14546"/>
          <a:stretch/>
        </p:blipFill>
        <p:spPr>
          <a:xfrm>
            <a:off x="2286000" y="121932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53251"/>
          <p:cNvSpPr/>
          <p:nvPr/>
        </p:nvSpPr>
        <p:spPr>
          <a:xfrm>
            <a:off x="3048120" y="5486400"/>
            <a:ext cx="39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lk in the fore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53255" descr="u=1062136268,1962366394&amp;fm=23&amp;gp=0"/>
          <p:cNvPicPr/>
          <p:nvPr/>
        </p:nvPicPr>
        <p:blipFill>
          <a:blip r:embed="rId1"/>
          <a:stretch/>
        </p:blipFill>
        <p:spPr>
          <a:xfrm>
            <a:off x="1295280" y="1143000"/>
            <a:ext cx="60199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4337"/>
          <p:cNvSpPr/>
          <p:nvPr/>
        </p:nvSpPr>
        <p:spPr>
          <a:xfrm>
            <a:off x="1066680" y="90504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矩形 14348"/>
          <p:cNvSpPr/>
          <p:nvPr/>
        </p:nvSpPr>
        <p:spPr>
          <a:xfrm>
            <a:off x="457200" y="17431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1. Li Ming did not do well in his exam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 2. Li Ming is going to visit his grandparents in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countrysid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3. Jenny is going to stay at Li Ming’s home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uring the summer holi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文本框 14349"/>
          <p:cNvSpPr/>
          <p:nvPr/>
        </p:nvSpPr>
        <p:spPr>
          <a:xfrm>
            <a:off x="1560600" y="194148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文本框 14351"/>
          <p:cNvSpPr/>
          <p:nvPr/>
        </p:nvSpPr>
        <p:spPr>
          <a:xfrm>
            <a:off x="1560600" y="410544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文本框 14352"/>
          <p:cNvSpPr/>
          <p:nvPr/>
        </p:nvSpPr>
        <p:spPr>
          <a:xfrm>
            <a:off x="1560600" y="265752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50276"/>
          <p:cNvSpPr/>
          <p:nvPr/>
        </p:nvSpPr>
        <p:spPr>
          <a:xfrm>
            <a:off x="762120" y="1371600"/>
            <a:ext cx="80769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did Li Ming’s school organiz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o will live in Li Ming’s hom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is Li Ming going to do about his experience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文本框 50277"/>
          <p:cNvSpPr/>
          <p:nvPr/>
        </p:nvSpPr>
        <p:spPr>
          <a:xfrm>
            <a:off x="1219320" y="685800"/>
            <a:ext cx="647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50278"/>
          <p:cNvSpPr/>
          <p:nvPr/>
        </p:nvSpPr>
        <p:spPr>
          <a:xfrm>
            <a:off x="1676520" y="2133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 Ming’s school organized a summer cam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50279"/>
          <p:cNvSpPr/>
          <p:nvPr/>
        </p:nvSpPr>
        <p:spPr>
          <a:xfrm>
            <a:off x="1676520" y="3429000"/>
            <a:ext cx="41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kid from the countrysid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50280"/>
          <p:cNvSpPr/>
          <p:nvPr/>
        </p:nvSpPr>
        <p:spPr>
          <a:xfrm>
            <a:off x="1600200" y="4648320"/>
            <a:ext cx="46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is going to write them dow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5361"/>
          <p:cNvSpPr/>
          <p:nvPr/>
        </p:nvSpPr>
        <p:spPr>
          <a:xfrm>
            <a:off x="838080" y="160020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ur school organized a special two-week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mmer cam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学校组织了一次特别的为期两周的夏令营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文本框 15362"/>
          <p:cNvSpPr/>
          <p:nvPr/>
        </p:nvSpPr>
        <p:spPr>
          <a:xfrm>
            <a:off x="1066680" y="3129120"/>
            <a:ext cx="746784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o-week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周的，形容词。这种结构通常是：数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字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单数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will have a three-day holi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将有一个三天的假期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6392"/>
          <p:cNvSpPr/>
          <p:nvPr/>
        </p:nvSpPr>
        <p:spPr>
          <a:xfrm>
            <a:off x="639720" y="911880"/>
            <a:ext cx="75898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am going to write down all of my experiences and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are them with you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写下我所有的经历，然后和你分享它们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6395"/>
          <p:cNvSpPr/>
          <p:nvPr/>
        </p:nvSpPr>
        <p:spPr>
          <a:xfrm>
            <a:off x="838080" y="2900520"/>
            <a:ext cx="754380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perienc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“经历”讲为可数名词，作“经验”讲为不可数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are sth. with sb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某人分享某事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ant to share the good news with you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和你分享这个好消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9:15Z</dcterms:created>
  <dc:creator/>
  <dc:description/>
  <dc:language>en-US</dc:language>
  <cp:lastModifiedBy>Administrator</cp:lastModifiedBy>
  <dcterms:modified xsi:type="dcterms:W3CDTF">2019-01-02T01:50:02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